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C3C8-0251-4A73-9573-3DFED7AA2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47E6-D3F0-43C1-B2C4-AA91F17A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0A5BF-B16F-4ECF-906A-29669A60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64F448-1507-4245-8D44-410FD7CD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A9DCC-5C73-4555-A12C-535676CE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06325F-923F-4A1A-BC6D-C265A329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A9CC10-4FBB-4C61-AC85-711B6989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A7AC9B-F2D3-4526-91CB-623DCAC4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1D700E-3E2F-438D-A2AC-13D399F8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7B22B-EBF5-45F2-AD51-82EDD2D60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9F4E6-59FA-4CF6-94AA-92698FB19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54E009-DC9E-44DF-A73A-160AB1BF0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3799-87BA-46BB-B07C-577B9DF30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30751D-A52B-4D8B-9D4B-C8E82BE1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0E842-9AD2-4F3B-A766-812FD434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792B34-C68C-4037-8D92-D2B6D136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6D1AA3-2195-462F-8C17-0704B37E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AD9A66-302B-4055-A732-ED70B0DF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4E993-CE68-441F-81D4-247B2444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13F1A-8945-49DC-B20C-82B0E20E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BC5117-5497-493C-93E0-5190CF80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6D0AE7-D43A-4412-AD74-0EBAA37F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CB5814-9189-403D-81F0-F6917EF47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063F-090F-43D2-A780-A6AD2BB01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853ADB-EA71-4FC1-AEA1-9748C0EAB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328AD4-4C16-4AD9-B8C5-621599E95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0EB4B-1344-4391-8CA5-7A1A9358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9D527-C5BF-4FB6-81C3-74B5C8E3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BDD86-F13A-495F-9AB6-AA424C6A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9432E-5D36-4314-A76A-3A1266E5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A59F5-68AF-4B98-9887-FB721BE7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7D60B3-7C40-4563-9303-D8F0AF95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5AE09-5C05-4E1E-9507-B7C7501D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40695-F070-44A3-97DF-67DE3C5E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C141-DA93-4C74-88E7-6C6B11BB2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9E0FA-6C07-4D39-BA97-FFB0A001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FFFCA-E353-4842-9A18-6B89F8E19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E5D76-9B08-4D19-8F50-5B528C5D3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8DE01E-21E5-494A-A62E-5DB1C543B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F09F6C-690C-4D4D-9FCA-555C02D7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9309D1-88CC-4E3D-A37B-1468087B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F016AE-32A4-4E08-AF78-F91E9FC9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D56404-FB95-452B-AD8F-0EB88A07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1FF1F4-8612-4550-9225-D58D3D8A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CED273-7772-4C3F-934F-7F944CFF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314A-45AA-4352-9FD3-9F825D27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E07DD6-FF40-4BA2-82E9-2794255B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1294F4-85E8-448D-93FE-70ACD505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CD0BE4-F15B-4D95-9F5C-C0620342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2F4B80-94AD-4786-BF66-6262E8E93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C2538E-D57D-4095-8F2C-7E1009E42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7CD491-D591-4763-B564-CF61E6285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8BDA98-05D6-46BC-9046-619EEA3E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BDD5FE-36CB-41BF-853E-A3C5E37B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C3D334-0144-4A0A-A834-CD38C04E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AE2FDC-19A1-4C75-9375-84D62A62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59FF-68F1-4BEF-B7A2-82213D88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1B7862-20BC-4B67-A2CF-FAEF5E52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EDB79F-EB37-4A9D-9965-300284A0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61776B-075E-42AE-B4F2-D4DC8806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58376D-AE80-4506-851C-AA5059BC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0DD8C7-8C28-4E8C-BCA6-A1F3CCDD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B95AF9-64C7-47BB-A505-48B55CD3F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B02B28-9238-4791-8F67-227DC58C5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E0553B-9B54-46BA-B637-5FB02718F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4D3E6A-CBFB-483C-BDB1-0EA7CFBB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C8F3C3-65D8-453E-AF97-7B834997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6276-2D13-47F1-A35D-2FBC201F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ECFFD2-E58C-4D25-89E5-0B816DB4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7237CE-9269-4974-BA86-AD87FF95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B5D343-CC6D-435F-887D-AB66317D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B6A82B-D87C-417F-912F-19306E96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73A928-272E-4B38-956D-E850F916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BD3D55-CA1D-4A24-9C30-33860CB9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A3F98C-8533-41CF-BADF-C42ACC32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35A8A5-DEB8-4835-8E92-477EE2673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4E2164-0AD0-4A6F-9FDB-B0B3A5B01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0FDD22-B46B-432E-8E75-FE659FFA2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4B25-F33C-4C67-9690-C908CF34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C188F5-2FF2-4E4D-B3D9-A4E8FABD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9EAC54-C733-4A02-A11C-4B25847C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CFB8CD-C03A-4EA9-BCAA-5A8CB17C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9F5374-C2CA-4CE0-85A4-47C191DD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C06B1F-6910-48E2-A6E8-951E943E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52403A-85AE-415B-8C52-4377D980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D141EF-76D7-4E96-B10E-A6EDADFC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DAA8B8-F9A6-427B-8311-8FE1490A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1B0037-1B7A-48CF-8115-3513FECA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D1884E-6DB7-4440-9722-AF027555B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91E8-DA9C-4099-AEE2-291AB15C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51A194-72C5-4BD3-BD3D-D5BBEB496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6541C1-719C-4D0A-8849-F6DE08DD3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C13F8E-341B-4EDC-B99E-6BA22460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EFF16D-440C-4A7D-84AC-615DB5A6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97BEBE-E378-41B6-A45E-8F59CB36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12596C-C80D-457D-B1EE-949EDC48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78DAB0-02AB-4A4F-8BD4-03BA77F3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C549DE-08E1-41A7-AB66-3B4EF380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718DD1-71FB-4BC0-9EC2-F3C4F2C0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A485B3-0BA0-4595-9B51-6B78D379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1501-DAC4-4EBB-A896-FBA45D39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E34402-16F2-4413-8AC1-A0133F98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B675D0-BDE9-4D4F-82FC-A9B7CA6A5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255436-92F8-44EF-AE73-9762F0BE5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667D63-0F31-495B-9291-29C2BE851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BD7621-A995-4656-931C-174D02E5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EBAD5B-7525-4AC9-893D-C4862A70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583627-DA6F-4D71-BA20-DA7F320A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AC577E-DDD4-44E8-80D7-4F89C59B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2F0DDC-FBC6-48EB-94DA-BFBC7CDF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02CC90-0AB7-4925-B528-4637DC41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3060-3E42-47C4-BF94-1C8D9D6B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F8FB-21BC-4EC5-8B24-ABF43407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B5F217-AC20-496A-BFC4-4ECB05D9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37D6EE-836B-485F-9C81-DCDFFABB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6FDB6B-7610-489E-8FFB-1DBA980A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103FE8-9678-4DA8-B37E-71778ADD7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CCB408-9634-436F-AF67-45841BD76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165E90-9C65-4762-BCDA-D38B97CC5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DB9397-EC57-4740-9653-132C6382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3E932D-2CCB-4D76-975F-8D60982E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95EF0F-1A39-4E89-9FF1-ABCEB704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3350E8-6676-4919-81AF-84F7DFA5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BEF0-0526-44FC-AFC6-48E7438C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A310D3-5E42-46B2-8994-A8ACA733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DB77F1-E491-414D-879A-263ED37A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19611A-4112-4C47-A145-FF87CDE8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BDA24E-13A5-4A09-B0C0-EC69A4F9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06ACB3-8059-42DD-927A-0DEFBB06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6E2724-A467-4017-A410-D01781C81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A316FA-CA14-4041-939B-E2175DED5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E34217-7CE3-4C25-BE6C-E63CC8A76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2DDE85-87FC-4FBF-9955-183B07E6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9170C2-22B9-4BB1-912C-1E80385E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3A08-30A1-427C-8325-F95FC5CD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848415-90D9-458A-ACA0-10A6C26E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579A3F-997C-4083-BAB5-BCC3D547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E29301-55DF-4397-A027-D8CDD654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106F75-B20B-4AB4-A38D-62A9A281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02E255-583A-4AE7-ADEE-63B1ECFA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8ECBD1-17B5-44FE-80EC-1F65FF37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72B161-34B3-4898-BCFB-0E3B3B4E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8CE482-FFC2-4401-A964-110FB12A9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A2032A-2B42-48DF-8286-53A39CA70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05057E-F1F9-4E32-8F07-0FDD9F327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AA93-48E2-427F-8B4F-1F3CC7630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0D655B-1E8A-43DF-AED2-95BA4884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6B5D24-C7E8-4CC2-A4DA-3EC8268E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F5B380-309C-4597-9E27-4CD594AC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A87975-7A63-48D6-B6C2-8C56184D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6F9F99-83FA-4E19-809B-B99F07F0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2EA8C6-2CDD-40A6-95A3-09F151B4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94BD6A-ABD7-408A-8136-202BE36C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6A6E7E-A5F8-452D-ADC5-087DAE8D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CC9550-A506-4549-A78D-7ECE2432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E341FC-05BE-4A13-A077-8548989F5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BBAE-D50D-4E4D-A286-C6EA45876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16B82E-66DF-493F-9B27-308B78816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181CFA-2DB3-4DD3-864A-D5EC693DD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6E0CAB-E8A8-4F9A-9BB8-F37123E1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DEC622-C0D1-40D2-A00B-7A51B976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FD1201-2456-4170-B879-23ABCFCC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F8A912-AA7F-4148-B5D5-C045DCBF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38E105-2DFA-4597-8E44-6C983843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EAC0A7-AF3A-491E-8C16-1C9F569B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C80B1C-7381-4D27-8A94-12F99446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14E007-FBEF-4AF5-A4F8-7B85D161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CCD2A-7C94-4BF2-BED8-F0C7FED4F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4C63C5-35EB-4155-9376-26AF111C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7EA78F-1A48-4D82-9C9E-6C73ED054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F3A98C-370F-49E4-90E7-8357AD098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23F36-6556-460F-8319-5ED413E1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CECF4-F755-4113-A6E1-A46098B0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F54E4-10D8-42EC-86A3-CDEDEA0A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DC41F-F870-4C03-8CB0-633BFE73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0BC2-2C53-40DA-A51F-8CFCE11C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D2DC4-98C2-4EBD-8BF0-F902F190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A343D-0266-4FE2-9813-6A8B9973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CDF77-B4D1-44A4-BA4C-78BD0D2E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52C6C-B6F8-4124-A3A9-B70F6559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E7054-7C20-49E8-9131-DF06EC32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992C3-06A5-4880-97A5-CFF8A52FA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01EEB-8126-45C0-93F6-B7D781C2B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F6175-7FCB-4C6C-907B-E6EA0F9F5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7FA59-3EF2-4E5D-9BA2-BF7D6C1A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624F2-A1AA-4F64-BA18-5E596878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A908-6243-49A5-99A2-BAE4462D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4B28D-6BB4-405F-84E4-A08E16D6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0C69D-AB49-43D8-AA92-828F9641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70C94-B85C-435B-B872-35479A58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DE64D-42A3-4AEE-908F-7A524DFF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DED2C-CADB-446E-BC75-643AFF8C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B7DCE-0FFB-4622-AB34-5142FDAD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E7133-1247-4379-97E2-646A002E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C2ED0-24B3-4FB5-B3C5-408AA7460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C7588-18D1-4A32-89A1-430B4BD43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B4485-44A0-497F-BC52-BCD677821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6204-F6ED-47FD-9344-51195BC7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6A3EE-0C1C-4EED-A787-454E12E7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90DD8-2F96-431A-B90D-393DA270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5AD24-C4DF-43A5-955B-5EB36C63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BA9C8-0DEE-4FBE-A220-C1A993CF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3C0B5-99DD-488B-9E48-3F1BF9E6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2E928-04F4-428B-B990-9AB78212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9063B-9680-4836-9E21-5D0F77A2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DEF44-ADA7-4D1C-A6A1-F4C85B4C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C398E-8B1F-45D6-A786-55B82064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0D2DA-D31A-4EB8-9268-8555BD721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F585-DAE9-485D-AFEB-2B096A58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C843E-CD79-44E8-B458-23CB87D81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47FC5-A1E9-4AD6-8F43-5654CFC26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E365B-6C50-4213-B334-AD21A378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3171B-B33F-40A1-8E9A-A993167A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9AEFC-D703-4481-A757-7AA690A9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2E37B-4AFC-4C7F-A610-B74E8352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762AD-39D1-43F4-B658-299794B7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9A8D6-3AE9-401D-BFE1-5CF52C80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EC601-9A37-493B-9899-11131BBC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B8481-0921-4629-9B90-B6BC7300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9E84-2D4F-4D40-96FD-C7240282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9DB66-D2F5-4875-B7D0-C8F33C44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AB7E3-1CE0-41FD-BA71-15A1C409C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11844-EDFD-406F-99A7-EEDBAE487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17320-686A-48EF-B45A-DF72AD868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CD15A-6803-4FD9-BE67-85B2290B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0212F-1849-4B6F-9E94-48B2C2A4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57B8E-EABA-4BCD-84A0-02D594ED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65538-4C71-412E-834E-830BC570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AF31D-AFBC-48F3-8660-E0B63382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032C7-27C4-4D56-A4EE-2F824E6B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2D1A-C710-4764-95D2-92277289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5FBCE-77CE-4B7E-B5B1-A3932034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1C6AD-09BB-49E4-A527-A3212AFF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9F59E-0D42-462A-9F97-18ABDC63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D4B7C-C863-4AE4-B61C-C87C4D1F3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068AA-6BAC-4383-AA01-76613A9B9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1BE98-4CED-4B06-8540-2E78F551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44349-B5C2-4880-886A-8143AD76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1199B-57FE-463C-9073-D35B9CB9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CEAE2-8624-4987-AF80-07EA1EC8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04E9F-9447-4C5A-9A2A-18619336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17CE-EF3E-404B-878B-7F867877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133E9-FBE4-479B-ABB7-411CBCCE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1D4F8-BFC8-495C-8FE9-E2AB7AE7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C1AA4-3891-4D06-BAF6-9A6CABCD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494F3-0B57-41DB-A8B3-041E8D30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6FF8E-213D-4516-B96C-7CE59D67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04D67-4B34-47FA-B97E-C938F42A0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028DC-0A42-4DF6-9AD4-56D780A5C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30E05-F88C-4EE5-9AB7-A166029B0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41475-8B11-49D2-8478-0F20AB66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45741D-27D4-4814-9E83-CD6503DD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E52B-0696-4EBB-821F-1EDD3347B2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5804-248A-41C4-9A20-290BE1C332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F5AC-9CD0-417B-826D-F116845D2B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106E-4BE5-4835-8494-9E8F08C483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FD70-2CB4-4B5C-9FAA-B7AF9B8364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2A85-CE04-467C-8B31-26F21444D8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8933-A01D-46F2-A8EB-9A876766E1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9C82-1B0A-42CE-9D09-9682959601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E3FE-18BD-45A9-86AD-C5B5FE2FF8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FD41-2131-4631-B193-F2D29B74CB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1A20-9E88-4B4E-BA42-57BCD85BA9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75B9-523D-46E5-BD42-786A0F7F95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EA7C-0A34-4510-A1A6-355A9B2B3C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7790-C41A-4B37-BBED-76E7F5BE8B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679B-BA44-4805-B3E6-1A1CFF2A91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D22D-F23F-454A-8E8E-999DA0FF55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53B9-2755-447C-92F6-792684566F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8E12-25DE-418F-8272-41E6E682F3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42C2-93F1-40BA-A42F-72BC396A6B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3F23-F4E6-4C21-B1BA-21C459BA05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C73C-061F-42E0-B700-2359A44705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1806-623F-4918-98A7-C3A8A1026A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8FE1-B336-4029-9C9A-5A692EABEF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2C6F-A7A2-40CF-AA8C-69BDBB7FF6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F2AA-BA58-4FF6-9E2B-3F2F292CB6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6A2F-E253-475D-B687-731AA0A521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B70A-1E11-4947-9144-5EB5F2A9A1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423B-DA1D-44BA-BCB8-1B1EAAB68B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54A8-4943-4D75-852D-6ADBFB9715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FE9D-042F-4EF8-9F07-83A48A83C7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6AE8-5467-44CE-B561-7186B5CBC8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7F03-CE93-4F49-9F18-896E7040A7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B65B-7683-434D-950C-56839C4299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F52A-964B-44CA-B30F-4E9DC1BF37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468B-EC63-49D9-8127-609B29EF16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07B3-6CA8-4BF6-A492-A3EEE5983F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8D02-1ADD-420D-9907-13AAD5DDFA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97E8-6561-4CEB-A81D-C52A53F3E8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E2D8-A189-4E34-9561-15F907DDA4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ACB2-2B77-47E5-8B2C-FAF5043F49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8" descr=""/>
          <p:cNvPicPr/>
          <p:nvPr/>
        </p:nvPicPr>
        <p:blipFill>
          <a:blip r:embed="rId1"/>
          <a:stretch/>
        </p:blipFill>
        <p:spPr>
          <a:xfrm>
            <a:off x="201600" y="2503440"/>
            <a:ext cx="861840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图片 69633" descr=""/>
          <p:cNvPicPr/>
          <p:nvPr/>
        </p:nvPicPr>
        <p:blipFill>
          <a:blip r:embed="rId1"/>
          <a:stretch/>
        </p:blipFill>
        <p:spPr>
          <a:xfrm>
            <a:off x="162000" y="2019240"/>
            <a:ext cx="8820000" cy="281952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2"/>
          <a:stretch/>
        </p:blipFill>
        <p:spPr>
          <a:xfrm>
            <a:off x="8101080" y="3270240"/>
            <a:ext cx="53172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图片 68609" descr=""/>
          <p:cNvPicPr/>
          <p:nvPr/>
        </p:nvPicPr>
        <p:blipFill>
          <a:blip r:embed="rId1"/>
          <a:stretch/>
        </p:blipFill>
        <p:spPr>
          <a:xfrm>
            <a:off x="176040" y="947880"/>
            <a:ext cx="8791920" cy="496224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2"/>
          <a:stretch/>
        </p:blipFill>
        <p:spPr>
          <a:xfrm>
            <a:off x="5508720" y="2133720"/>
            <a:ext cx="531720" cy="49824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3"/>
          <a:stretch/>
        </p:blipFill>
        <p:spPr>
          <a:xfrm>
            <a:off x="250920" y="3716280"/>
            <a:ext cx="8642160" cy="93672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4"/>
          <a:stretch/>
        </p:blipFill>
        <p:spPr>
          <a:xfrm>
            <a:off x="6443640" y="4710240"/>
            <a:ext cx="2449440" cy="49824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5"/>
          <a:stretch/>
        </p:blipFill>
        <p:spPr>
          <a:xfrm>
            <a:off x="826920" y="5315040"/>
            <a:ext cx="86544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6" name="图片 67585" descr=""/>
          <p:cNvPicPr/>
          <p:nvPr/>
        </p:nvPicPr>
        <p:blipFill>
          <a:blip r:embed="rId1"/>
          <a:stretch/>
        </p:blipFill>
        <p:spPr>
          <a:xfrm>
            <a:off x="219240" y="763560"/>
            <a:ext cx="8705520" cy="590544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2"/>
          <a:stretch/>
        </p:blipFill>
        <p:spPr>
          <a:xfrm>
            <a:off x="2843280" y="1714680"/>
            <a:ext cx="4105080" cy="49824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3"/>
          <a:stretch/>
        </p:blipFill>
        <p:spPr>
          <a:xfrm>
            <a:off x="755640" y="3357720"/>
            <a:ext cx="4105440" cy="49824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4"/>
          <a:stretch/>
        </p:blipFill>
        <p:spPr>
          <a:xfrm>
            <a:off x="1547640" y="3933720"/>
            <a:ext cx="4105440" cy="49860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5"/>
          <a:stretch/>
        </p:blipFill>
        <p:spPr>
          <a:xfrm>
            <a:off x="539640" y="5530680"/>
            <a:ext cx="7704360" cy="49860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6"/>
          <a:stretch/>
        </p:blipFill>
        <p:spPr>
          <a:xfrm>
            <a:off x="468360" y="6093000"/>
            <a:ext cx="770400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2" name="图片 66561" descr=""/>
          <p:cNvPicPr/>
          <p:nvPr/>
        </p:nvPicPr>
        <p:blipFill>
          <a:blip r:embed="rId1"/>
          <a:stretch/>
        </p:blipFill>
        <p:spPr>
          <a:xfrm>
            <a:off x="1538280" y="920880"/>
            <a:ext cx="6067440" cy="502920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2"/>
          <a:stretch/>
        </p:blipFill>
        <p:spPr>
          <a:xfrm>
            <a:off x="1619280" y="1498680"/>
            <a:ext cx="6048360" cy="49824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3"/>
          <a:stretch/>
        </p:blipFill>
        <p:spPr>
          <a:xfrm>
            <a:off x="1979640" y="1989000"/>
            <a:ext cx="6048360" cy="4986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" descr=""/>
          <p:cNvPicPr/>
          <p:nvPr/>
        </p:nvPicPr>
        <p:blipFill>
          <a:blip r:embed="rId4"/>
          <a:stretch/>
        </p:blipFill>
        <p:spPr>
          <a:xfrm>
            <a:off x="2124000" y="2565360"/>
            <a:ext cx="6048360" cy="49860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" descr=""/>
          <p:cNvPicPr/>
          <p:nvPr/>
        </p:nvPicPr>
        <p:blipFill>
          <a:blip r:embed="rId5"/>
          <a:stretch/>
        </p:blipFill>
        <p:spPr>
          <a:xfrm>
            <a:off x="1546200" y="4233960"/>
            <a:ext cx="6048360" cy="49824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6"/>
          <a:stretch/>
        </p:blipFill>
        <p:spPr>
          <a:xfrm>
            <a:off x="1906560" y="4724280"/>
            <a:ext cx="6048360" cy="49860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7"/>
          <a:stretch/>
        </p:blipFill>
        <p:spPr>
          <a:xfrm>
            <a:off x="2050920" y="5300640"/>
            <a:ext cx="604836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图片 65537" descr=""/>
          <p:cNvPicPr/>
          <p:nvPr/>
        </p:nvPicPr>
        <p:blipFill>
          <a:blip r:embed="rId1"/>
          <a:stretch/>
        </p:blipFill>
        <p:spPr>
          <a:xfrm>
            <a:off x="204840" y="577800"/>
            <a:ext cx="8734320" cy="616284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1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7777080" cy="49860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1" descr=""/>
          <p:cNvPicPr/>
          <p:nvPr/>
        </p:nvPicPr>
        <p:blipFill>
          <a:blip r:embed="rId3"/>
          <a:stretch/>
        </p:blipFill>
        <p:spPr>
          <a:xfrm>
            <a:off x="755640" y="2133720"/>
            <a:ext cx="7777080" cy="49824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1" descr=""/>
          <p:cNvPicPr/>
          <p:nvPr/>
        </p:nvPicPr>
        <p:blipFill>
          <a:blip r:embed="rId4"/>
          <a:stretch/>
        </p:blipFill>
        <p:spPr>
          <a:xfrm>
            <a:off x="684360" y="2708280"/>
            <a:ext cx="7777080" cy="49860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1" descr=""/>
          <p:cNvPicPr/>
          <p:nvPr/>
        </p:nvPicPr>
        <p:blipFill>
          <a:blip r:embed="rId5"/>
          <a:stretch/>
        </p:blipFill>
        <p:spPr>
          <a:xfrm>
            <a:off x="755640" y="3286080"/>
            <a:ext cx="7777080" cy="49860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1" descr=""/>
          <p:cNvPicPr/>
          <p:nvPr/>
        </p:nvPicPr>
        <p:blipFill>
          <a:blip r:embed="rId6"/>
          <a:stretch/>
        </p:blipFill>
        <p:spPr>
          <a:xfrm>
            <a:off x="755640" y="3790800"/>
            <a:ext cx="7777080" cy="49860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1" descr=""/>
          <p:cNvPicPr/>
          <p:nvPr/>
        </p:nvPicPr>
        <p:blipFill>
          <a:blip r:embed="rId7"/>
          <a:stretch/>
        </p:blipFill>
        <p:spPr>
          <a:xfrm>
            <a:off x="684360" y="4365720"/>
            <a:ext cx="7777080" cy="49824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1" descr=""/>
          <p:cNvPicPr/>
          <p:nvPr/>
        </p:nvPicPr>
        <p:blipFill>
          <a:blip r:embed="rId8"/>
          <a:stretch/>
        </p:blipFill>
        <p:spPr>
          <a:xfrm>
            <a:off x="324000" y="4941720"/>
            <a:ext cx="2663640" cy="191628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1" descr=""/>
          <p:cNvPicPr/>
          <p:nvPr/>
        </p:nvPicPr>
        <p:blipFill>
          <a:blip r:embed="rId9"/>
          <a:stretch/>
        </p:blipFill>
        <p:spPr>
          <a:xfrm>
            <a:off x="3002040" y="4941720"/>
            <a:ext cx="266364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8" dur="1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3" dur="1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8" dur="1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3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8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3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8" dur="1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3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8" name="图片 64513" descr=""/>
          <p:cNvPicPr/>
          <p:nvPr/>
        </p:nvPicPr>
        <p:blipFill>
          <a:blip r:embed="rId1"/>
          <a:stretch/>
        </p:blipFill>
        <p:spPr>
          <a:xfrm>
            <a:off x="297000" y="703440"/>
            <a:ext cx="8667720" cy="603864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1" descr=""/>
          <p:cNvPicPr/>
          <p:nvPr/>
        </p:nvPicPr>
        <p:blipFill>
          <a:blip r:embed="rId2"/>
          <a:stretch/>
        </p:blipFill>
        <p:spPr>
          <a:xfrm>
            <a:off x="826920" y="2852640"/>
            <a:ext cx="8137800" cy="49860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1" descr=""/>
          <p:cNvPicPr/>
          <p:nvPr/>
        </p:nvPicPr>
        <p:blipFill>
          <a:blip r:embed="rId3"/>
          <a:stretch/>
        </p:blipFill>
        <p:spPr>
          <a:xfrm>
            <a:off x="755640" y="3443400"/>
            <a:ext cx="8137440" cy="106524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1" descr=""/>
          <p:cNvPicPr/>
          <p:nvPr/>
        </p:nvPicPr>
        <p:blipFill>
          <a:blip r:embed="rId4"/>
          <a:stretch/>
        </p:blipFill>
        <p:spPr>
          <a:xfrm>
            <a:off x="611280" y="4522680"/>
            <a:ext cx="8137440" cy="106524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1" descr=""/>
          <p:cNvPicPr/>
          <p:nvPr/>
        </p:nvPicPr>
        <p:blipFill>
          <a:blip r:embed="rId5"/>
          <a:stretch/>
        </p:blipFill>
        <p:spPr>
          <a:xfrm>
            <a:off x="468360" y="5646600"/>
            <a:ext cx="8137440" cy="10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0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5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0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5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3" name="图片 63489" descr=""/>
          <p:cNvPicPr/>
          <p:nvPr/>
        </p:nvPicPr>
        <p:blipFill>
          <a:blip r:embed="rId1"/>
          <a:stretch/>
        </p:blipFill>
        <p:spPr>
          <a:xfrm>
            <a:off x="2443320" y="2948040"/>
            <a:ext cx="4257360" cy="96192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1" descr=""/>
          <p:cNvPicPr/>
          <p:nvPr/>
        </p:nvPicPr>
        <p:blipFill>
          <a:blip r:embed="rId2"/>
          <a:stretch/>
        </p:blipFill>
        <p:spPr>
          <a:xfrm>
            <a:off x="2411280" y="2852640"/>
            <a:ext cx="4753080" cy="49860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1" descr=""/>
          <p:cNvPicPr/>
          <p:nvPr/>
        </p:nvPicPr>
        <p:blipFill>
          <a:blip r:embed="rId3"/>
          <a:stretch/>
        </p:blipFill>
        <p:spPr>
          <a:xfrm>
            <a:off x="2340000" y="3443400"/>
            <a:ext cx="475308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2" dur="1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7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62465" descr=""/>
          <p:cNvPicPr/>
          <p:nvPr/>
        </p:nvPicPr>
        <p:blipFill>
          <a:blip r:embed="rId1"/>
          <a:stretch/>
        </p:blipFill>
        <p:spPr>
          <a:xfrm>
            <a:off x="228600" y="766800"/>
            <a:ext cx="868680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61441" descr=""/>
          <p:cNvPicPr/>
          <p:nvPr/>
        </p:nvPicPr>
        <p:blipFill>
          <a:blip r:embed="rId1"/>
          <a:stretch/>
        </p:blipFill>
        <p:spPr>
          <a:xfrm>
            <a:off x="1104840" y="966960"/>
            <a:ext cx="6934320" cy="492408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2"/>
          <a:stretch/>
        </p:blipFill>
        <p:spPr>
          <a:xfrm>
            <a:off x="971640" y="981000"/>
            <a:ext cx="6264360" cy="49860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3"/>
          <a:stretch/>
        </p:blipFill>
        <p:spPr>
          <a:xfrm>
            <a:off x="971640" y="1557360"/>
            <a:ext cx="6264360" cy="49860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4"/>
          <a:stretch/>
        </p:blipFill>
        <p:spPr>
          <a:xfrm>
            <a:off x="971640" y="2060640"/>
            <a:ext cx="6264360" cy="49824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5"/>
          <a:stretch/>
        </p:blipFill>
        <p:spPr>
          <a:xfrm>
            <a:off x="971640" y="2637000"/>
            <a:ext cx="6264360" cy="49824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6"/>
          <a:stretch/>
        </p:blipFill>
        <p:spPr>
          <a:xfrm>
            <a:off x="1042920" y="3139920"/>
            <a:ext cx="6264360" cy="49860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7"/>
          <a:stretch/>
        </p:blipFill>
        <p:spPr>
          <a:xfrm>
            <a:off x="1042920" y="3716280"/>
            <a:ext cx="6264360" cy="49860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8"/>
          <a:stretch/>
        </p:blipFill>
        <p:spPr>
          <a:xfrm>
            <a:off x="1116000" y="4221000"/>
            <a:ext cx="7272360" cy="49860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9"/>
          <a:stretch/>
        </p:blipFill>
        <p:spPr>
          <a:xfrm>
            <a:off x="1116000" y="4797360"/>
            <a:ext cx="7272360" cy="49860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10"/>
          <a:stretch/>
        </p:blipFill>
        <p:spPr>
          <a:xfrm>
            <a:off x="1187280" y="5373720"/>
            <a:ext cx="727236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4" dur="1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9" dur="1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4" dur="1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9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4" dur="1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9" dur="1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4" dur="1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9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4" dur="1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3" name="组合 60430"/>
          <p:cNvGrpSpPr/>
          <p:nvPr/>
        </p:nvGrpSpPr>
        <p:grpSpPr>
          <a:xfrm>
            <a:off x="1619280" y="692280"/>
            <a:ext cx="6045120" cy="5833800"/>
            <a:chOff x="1619280" y="692280"/>
            <a:chExt cx="6045120" cy="5833800"/>
          </a:xfrm>
        </p:grpSpPr>
        <p:pic>
          <p:nvPicPr>
            <p:cNvPr id="1024" name="图片 60428" descr=""/>
            <p:cNvPicPr/>
            <p:nvPr/>
          </p:nvPicPr>
          <p:blipFill>
            <a:blip r:embed="rId1"/>
            <a:stretch/>
          </p:blipFill>
          <p:spPr>
            <a:xfrm>
              <a:off x="1692360" y="692280"/>
              <a:ext cx="5972040" cy="39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5" name="图片 60429" descr=""/>
            <p:cNvPicPr/>
            <p:nvPr/>
          </p:nvPicPr>
          <p:blipFill>
            <a:blip r:embed="rId2"/>
            <a:stretch/>
          </p:blipFill>
          <p:spPr>
            <a:xfrm>
              <a:off x="1619280" y="4869000"/>
              <a:ext cx="5924520" cy="1657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2484360" y="3011400"/>
            <a:ext cx="517680" cy="48600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4"/>
          <a:stretch/>
        </p:blipFill>
        <p:spPr>
          <a:xfrm>
            <a:off x="6156360" y="3011400"/>
            <a:ext cx="517320" cy="4860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5"/>
          <a:stretch/>
        </p:blipFill>
        <p:spPr>
          <a:xfrm>
            <a:off x="5940360" y="3557520"/>
            <a:ext cx="1871640" cy="4860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6"/>
          <a:stretch/>
        </p:blipFill>
        <p:spPr>
          <a:xfrm>
            <a:off x="1332000" y="4091040"/>
            <a:ext cx="1871640" cy="4856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7"/>
          <a:stretch/>
        </p:blipFill>
        <p:spPr>
          <a:xfrm>
            <a:off x="5003640" y="4826160"/>
            <a:ext cx="2232360" cy="4856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8"/>
          <a:stretch/>
        </p:blipFill>
        <p:spPr>
          <a:xfrm>
            <a:off x="4572000" y="5905440"/>
            <a:ext cx="223200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图片 59410" descr=""/>
          <p:cNvPicPr/>
          <p:nvPr/>
        </p:nvPicPr>
        <p:blipFill>
          <a:blip r:embed="rId1"/>
          <a:stretch/>
        </p:blipFill>
        <p:spPr>
          <a:xfrm>
            <a:off x="1695600" y="612720"/>
            <a:ext cx="5972040" cy="62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58373" descr=""/>
          <p:cNvPicPr/>
          <p:nvPr/>
        </p:nvPicPr>
        <p:blipFill>
          <a:blip r:embed="rId1"/>
          <a:stretch/>
        </p:blipFill>
        <p:spPr>
          <a:xfrm>
            <a:off x="1652760" y="871560"/>
            <a:ext cx="5943600" cy="55818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3679920" y="836640"/>
            <a:ext cx="4060800" cy="4856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1187280" y="1355760"/>
            <a:ext cx="4061160" cy="4856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4"/>
          <a:stretch/>
        </p:blipFill>
        <p:spPr>
          <a:xfrm>
            <a:off x="1258920" y="1944720"/>
            <a:ext cx="6842160" cy="8366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5"/>
          <a:stretch/>
        </p:blipFill>
        <p:spPr>
          <a:xfrm>
            <a:off x="1258920" y="2852640"/>
            <a:ext cx="6842160" cy="8366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6"/>
          <a:stretch/>
        </p:blipFill>
        <p:spPr>
          <a:xfrm>
            <a:off x="1403280" y="3832200"/>
            <a:ext cx="6624720" cy="4856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7"/>
          <a:stretch/>
        </p:blipFill>
        <p:spPr>
          <a:xfrm>
            <a:off x="1258920" y="4437000"/>
            <a:ext cx="6624720" cy="48600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8"/>
          <a:stretch/>
        </p:blipFill>
        <p:spPr>
          <a:xfrm>
            <a:off x="1332000" y="4883040"/>
            <a:ext cx="6624720" cy="4860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9"/>
          <a:stretch/>
        </p:blipFill>
        <p:spPr>
          <a:xfrm>
            <a:off x="1042920" y="5445000"/>
            <a:ext cx="5111640" cy="48600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10"/>
          <a:stretch/>
        </p:blipFill>
        <p:spPr>
          <a:xfrm>
            <a:off x="6170760" y="5430960"/>
            <a:ext cx="1785960" cy="4856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11"/>
          <a:stretch/>
        </p:blipFill>
        <p:spPr>
          <a:xfrm>
            <a:off x="971640" y="5964120"/>
            <a:ext cx="511164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图片 57352" descr=""/>
          <p:cNvPicPr/>
          <p:nvPr/>
        </p:nvPicPr>
        <p:blipFill>
          <a:blip r:embed="rId1"/>
          <a:stretch/>
        </p:blipFill>
        <p:spPr>
          <a:xfrm>
            <a:off x="1619280" y="1006560"/>
            <a:ext cx="5905440" cy="50864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3606840" y="4767120"/>
            <a:ext cx="3844800" cy="48600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3"/>
          <a:stretch/>
        </p:blipFill>
        <p:spPr>
          <a:xfrm>
            <a:off x="1258920" y="5315040"/>
            <a:ext cx="561816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图片 56324" descr=""/>
          <p:cNvPicPr/>
          <p:nvPr/>
        </p:nvPicPr>
        <p:blipFill>
          <a:blip r:embed="rId1"/>
          <a:stretch/>
        </p:blipFill>
        <p:spPr>
          <a:xfrm>
            <a:off x="233280" y="804960"/>
            <a:ext cx="8677440" cy="52480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2"/>
          <a:stretch/>
        </p:blipFill>
        <p:spPr>
          <a:xfrm>
            <a:off x="8288280" y="2276640"/>
            <a:ext cx="432000" cy="4046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3"/>
          <a:stretch/>
        </p:blipFill>
        <p:spPr>
          <a:xfrm>
            <a:off x="8317080" y="3573360"/>
            <a:ext cx="431640" cy="40500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4"/>
          <a:stretch/>
        </p:blipFill>
        <p:spPr>
          <a:xfrm>
            <a:off x="8317080" y="4869000"/>
            <a:ext cx="43164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图片 55300" descr=""/>
          <p:cNvPicPr/>
          <p:nvPr/>
        </p:nvPicPr>
        <p:blipFill>
          <a:blip r:embed="rId1"/>
          <a:stretch/>
        </p:blipFill>
        <p:spPr>
          <a:xfrm>
            <a:off x="247680" y="1004760"/>
            <a:ext cx="8648640" cy="48484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2"/>
          <a:stretch/>
        </p:blipFill>
        <p:spPr>
          <a:xfrm>
            <a:off x="684360" y="2176560"/>
            <a:ext cx="3743280" cy="6760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3"/>
          <a:stretch/>
        </p:blipFill>
        <p:spPr>
          <a:xfrm>
            <a:off x="611280" y="2982960"/>
            <a:ext cx="3743280" cy="6760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4"/>
          <a:stretch/>
        </p:blipFill>
        <p:spPr>
          <a:xfrm>
            <a:off x="5219640" y="2247840"/>
            <a:ext cx="3456000" cy="40500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5"/>
          <a:stretch/>
        </p:blipFill>
        <p:spPr>
          <a:xfrm>
            <a:off x="5435640" y="2736720"/>
            <a:ext cx="3456000" cy="40500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6"/>
          <a:stretch/>
        </p:blipFill>
        <p:spPr>
          <a:xfrm>
            <a:off x="611280" y="4508640"/>
            <a:ext cx="3456000" cy="40464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7"/>
          <a:stretch/>
        </p:blipFill>
        <p:spPr>
          <a:xfrm>
            <a:off x="611280" y="4941720"/>
            <a:ext cx="3456000" cy="40500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8"/>
          <a:stretch/>
        </p:blipFill>
        <p:spPr>
          <a:xfrm>
            <a:off x="971640" y="5388120"/>
            <a:ext cx="3456000" cy="40464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9"/>
          <a:stretch/>
        </p:blipFill>
        <p:spPr>
          <a:xfrm>
            <a:off x="5364000" y="4465800"/>
            <a:ext cx="3456000" cy="40464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10"/>
          <a:stretch/>
        </p:blipFill>
        <p:spPr>
          <a:xfrm>
            <a:off x="5364000" y="4941720"/>
            <a:ext cx="3456000" cy="40500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11"/>
          <a:stretch/>
        </p:blipFill>
        <p:spPr>
          <a:xfrm>
            <a:off x="5478480" y="5373720"/>
            <a:ext cx="345600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图片 54276" descr=""/>
          <p:cNvPicPr/>
          <p:nvPr/>
        </p:nvPicPr>
        <p:blipFill>
          <a:blip r:embed="rId1"/>
          <a:stretch/>
        </p:blipFill>
        <p:spPr>
          <a:xfrm>
            <a:off x="228600" y="1619280"/>
            <a:ext cx="8686800" cy="361944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2"/>
          <a:stretch/>
        </p:blipFill>
        <p:spPr>
          <a:xfrm>
            <a:off x="8288280" y="2060640"/>
            <a:ext cx="432000" cy="40464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3"/>
          <a:stretch/>
        </p:blipFill>
        <p:spPr>
          <a:xfrm>
            <a:off x="539640" y="4221000"/>
            <a:ext cx="7777440" cy="40500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4"/>
          <a:stretch/>
        </p:blipFill>
        <p:spPr>
          <a:xfrm>
            <a:off x="395280" y="4653000"/>
            <a:ext cx="777708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图片 52231" descr=""/>
          <p:cNvPicPr/>
          <p:nvPr/>
        </p:nvPicPr>
        <p:blipFill>
          <a:blip r:embed="rId1"/>
          <a:stretch/>
        </p:blipFill>
        <p:spPr>
          <a:xfrm>
            <a:off x="500040" y="2233440"/>
            <a:ext cx="8143920" cy="239112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2"/>
          <a:stretch/>
        </p:blipFill>
        <p:spPr>
          <a:xfrm>
            <a:off x="684360" y="3616200"/>
            <a:ext cx="6696000" cy="40500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3"/>
          <a:stretch/>
        </p:blipFill>
        <p:spPr>
          <a:xfrm>
            <a:off x="539640" y="4076640"/>
            <a:ext cx="820908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2T08:45:16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